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478-F0C8-4921-BF6E-8643AAB3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A3A-BC64-46B5-AD61-40029F8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CEF-B895-4741-A7D8-3D0D397E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2CE-7521-4F06-97F7-49B9784B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3C3-2B31-467D-B601-7000C5A7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D48-35DF-4C6A-B6DC-7EAD5FE6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8DB-0762-4D12-9D9C-AABF04C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111-D03E-4A23-9C92-445CCC95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C35-13FA-4E39-9F71-BD3D3EF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FC5-9CAA-4C89-9BCA-3D87FD6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75D-8C55-4923-949D-1F0509C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802-EB0A-44CE-917E-7D8422A0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2DAE-570F-404C-8B8D-F6153B3C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ll.fll.purdue.edu/JapanProj/FLClipart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0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rooms in the apar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390840" y="3638520"/>
            <a:ext cx="56008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26924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1647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390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9454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gata es muy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http://thumb7.shutterstock.com/display_pic_with_logo/285580/285580,1280171143,1/stock-vector-illustration-of-very-cute-white-cat-with-pink-bow-57879550.jpg"/>
          <p:cNvPicPr/>
          <p:nvPr/>
        </p:nvPicPr>
        <p:blipFill>
          <a:blip r:embed="rId3"/>
          <a:stretch/>
        </p:blipFill>
        <p:spPr>
          <a:xfrm>
            <a:off x="6740640" y="430200"/>
            <a:ext cx="1412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s gusta _____ casa 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no es gran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en la cafeteria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_ mucho en la clase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un ga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_________ en el café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mucha cola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onde vive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a casa privad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Nosotros vivimos en (1)__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ame of city or town)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2)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a esta en la calle (3)__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ame of street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(4)_________ padres tienen un carro. (5)_______ carro es bastante nuevo. Yo tengo una bicicleta. (6)______ bicicleta esta en el garaje con el carro de (7)__________ padres. Nosotros tenemos un perro. (8)__________ perro es ad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(9)_________ perro esta en el jardín. Mi hermano y (10)_________ amigos siempre juegan en el jardin alrededor de (11)____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escribe un parrafo de un minimo de 10 oraciones acerc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bout)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scuela y tus clases e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hi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ñ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ay OUR i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tivos Poses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l-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los-Ellas-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6888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60892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644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3932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35880" y="3352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745360" y="33526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51000" y="3900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82096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913120" y="4357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522960" y="43578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609280" y="48909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437720" y="48909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(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675240" y="5410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8880" y="54100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0368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i"/>
          <p:cNvPicPr/>
          <p:nvPr/>
        </p:nvPicPr>
        <p:blipFill>
          <a:blip r:embed="rId2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pantal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you-singular"/>
          <p:cNvPicPr/>
          <p:nvPr/>
        </p:nvPicPr>
        <p:blipFill>
          <a:blip r:embed="rId1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0" descr="http://i2.cdscdn.com/pdt2/3/6/1/1/700x700/mp00155361/rw/pantalon-moto-jean-kevlar-i.jpg"/>
          <p:cNvPicPr/>
          <p:nvPr/>
        </p:nvPicPr>
        <p:blipFill>
          <a:blip r:embed="rId3"/>
          <a:stretch/>
        </p:blipFill>
        <p:spPr>
          <a:xfrm>
            <a:off x="7250040" y="68112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76720" y="45720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 pastel de chocol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he"/>
          <p:cNvPicPr/>
          <p:nvPr/>
        </p:nvPicPr>
        <p:blipFill>
          <a:blip r:embed="rId1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/>
          <p:cNvSpPr/>
          <p:nvPr/>
        </p:nvSpPr>
        <p:spPr>
          <a:xfrm>
            <a:off x="155520" y="-87624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"/>
          <p:cNvPicPr/>
          <p:nvPr/>
        </p:nvPicPr>
        <p:blipFill>
          <a:blip r:embed="rId3"/>
          <a:stretch/>
        </p:blipFill>
        <p:spPr>
          <a:xfrm>
            <a:off x="6991200" y="1166760"/>
            <a:ext cx="18669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429000" y="83808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gusta más ____  hamburgue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i"/>
          <p:cNvPicPr/>
          <p:nvPr/>
        </p:nvPicPr>
        <p:blipFill>
          <a:blip r:embed="rId1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1" descr="http://cd1.dibujos.net/dibujos/pintados/201219/hamburguesa-con-lechuga-comida-pan-y-pasta-pintado-por-pipig-9738332.jpg"/>
          <p:cNvPicPr/>
          <p:nvPr/>
        </p:nvPicPr>
        <p:blipFill>
          <a:blip r:embed="rId3"/>
          <a:stretch/>
        </p:blipFill>
        <p:spPr>
          <a:xfrm>
            <a:off x="7135920" y="1424160"/>
            <a:ext cx="1963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ensalad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"/>
          <p:cNvPicPr/>
          <p:nvPr/>
        </p:nvPicPr>
        <p:blipFill>
          <a:blip r:embed="rId1"/>
          <a:stretch/>
        </p:blipFill>
        <p:spPr>
          <a:xfrm>
            <a:off x="457200" y="6858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0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0" descr="http://images.clipartpanda.com/pasta-salad-clipart-rauwkost.jpg"/>
          <p:cNvPicPr/>
          <p:nvPr/>
        </p:nvPicPr>
        <p:blipFill>
          <a:blip r:embed="rId3"/>
          <a:stretch/>
        </p:blipFill>
        <p:spPr>
          <a:xfrm>
            <a:off x="6324480" y="433440"/>
            <a:ext cx="2381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vestid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7" descr="you-singular"/>
          <p:cNvPicPr/>
          <p:nvPr/>
        </p:nvPicPr>
        <p:blipFill>
          <a:blip r:embed="rId2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http://www.walsonrockabilly.com/images/Polka_Dot_Dresses/Red-Hetty%27-Polka-Dot-Bow-Shawl-Collar-Vintage-1950%27s-Rockabilly-Swing-Dress.jpg"/>
          <p:cNvPicPr/>
          <p:nvPr/>
        </p:nvPicPr>
        <p:blipFill>
          <a:blip r:embed="rId3"/>
          <a:stretch/>
        </p:blipFill>
        <p:spPr>
          <a:xfrm>
            <a:off x="6781680" y="399960"/>
            <a:ext cx="1630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00400" y="609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__      car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155520" y="-1317600"/>
            <a:ext cx="8001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1" descr=""/>
          <p:cNvPicPr/>
          <p:nvPr/>
        </p:nvPicPr>
        <p:blipFill>
          <a:blip r:embed="rId3"/>
          <a:stretch/>
        </p:blipFill>
        <p:spPr>
          <a:xfrm>
            <a:off x="5272200" y="1612800"/>
            <a:ext cx="3476520" cy="1197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3"/>
          <p:cNvSpPr/>
          <p:nvPr/>
        </p:nvSpPr>
        <p:spPr>
          <a:xfrm>
            <a:off x="307800" y="-116532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01:03Z</dcterms:created>
  <dc:creator>Helen Zumaeta</dc:creator>
  <dc:description/>
  <dc:language>en-US</dc:language>
  <cp:lastModifiedBy>Helen Zumaeta</cp:lastModifiedBy>
  <cp:lastPrinted>2014-10-10T19:18:40Z</cp:lastPrinted>
  <dcterms:modified xsi:type="dcterms:W3CDTF">2014-10-10T20:24:32Z</dcterms:modified>
  <cp:revision>15</cp:revision>
  <dc:subject/>
  <dc:title>Me llamo _________ Clase 6nh/il La fecha es el 4 de abril del 2011</dc:title>
</cp:coreProperties>
</file>